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19.gif" ContentType="image/gif"/>
  <Override PartName="/ppt/media/image17.jpeg" ContentType="image/jpeg"/>
  <Override PartName="/ppt/media/image16.gif" ContentType="image/gif"/>
  <Override PartName="/ppt/media/image5.gif" ContentType="image/gif"/>
  <Override PartName="/ppt/media/image14.jpeg" ContentType="image/jpeg"/>
  <Override PartName="/ppt/media/image15.gif" ContentType="image/gif"/>
  <Override PartName="/ppt/media/image3.jpeg" ContentType="image/jpeg"/>
  <Override PartName="/ppt/media/image6.png" ContentType="image/png"/>
  <Override PartName="/ppt/media/image12.jpeg" ContentType="image/jpeg"/>
  <Override PartName="/ppt/media/image4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1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512D-8ECA-4857-9100-A54CAFC5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0E89-4DEE-4947-A52F-7D893838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D26E-7C3F-4330-8104-77071D4B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CDC4-96A3-45A2-B54A-16EE21563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4EFB-2A16-4EAD-B8CB-818466F5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2EEE-BC7F-4F88-A34A-E3646A75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B6C3-CE1E-48B0-BA61-A2302FD8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764F-B7D9-4FBB-9679-36E18C16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62CE-2231-4B2E-9940-D205A0DD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4D43-13EE-4614-9AE9-117CE28B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FEA0-5E59-4E64-A081-0EF7B755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921C-A725-4FDB-B3D6-DADE5314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1DFC-7CEF-4202-8A1C-A74A85B464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" Target="slide4.xml"/><Relationship Id="rId11" Type="http://schemas.openxmlformats.org/officeDocument/2006/relationships/image" Target="../media/image15.gif"/><Relationship Id="rId12" Type="http://schemas.openxmlformats.org/officeDocument/2006/relationships/slide" Target="slide5.xml"/><Relationship Id="rId13" Type="http://schemas.openxmlformats.org/officeDocument/2006/relationships/image" Target="../media/image16.gi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3.xml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ack" descr=""/>
          <p:cNvPicPr/>
          <p:nvPr/>
        </p:nvPicPr>
        <p:blipFill>
          <a:blip r:embed="rId1"/>
          <a:stretch/>
        </p:blipFill>
        <p:spPr>
          <a:xfrm>
            <a:off x="0" y="-7632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057400" y="457200"/>
            <a:ext cx="54864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WELCOME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5257800"/>
            <a:ext cx="2819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ff"/>
                </a:solidFill>
                <a:latin typeface="Times New Roman"/>
              </a:rPr>
              <a:t>200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000" spc="-1" strike="noStrike">
                <a:solidFill>
                  <a:srgbClr val="ffff66"/>
                </a:solidFill>
                <a:latin typeface="Times New Roman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000" spc="-1" strike="noStrike">
                <a:solidFill>
                  <a:srgbClr val="00cc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ird" descr=""/>
          <p:cNvPicPr/>
          <p:nvPr/>
        </p:nvPicPr>
        <p:blipFill>
          <a:blip r:embed="rId2"/>
          <a:stretch/>
        </p:blipFill>
        <p:spPr>
          <a:xfrm>
            <a:off x="7886880" y="1905120"/>
            <a:ext cx="1257120" cy="1143000"/>
          </a:xfrm>
          <a:prstGeom prst="rect">
            <a:avLst/>
          </a:prstGeom>
          <a:ln w="0">
            <a:noFill/>
          </a:ln>
        </p:spPr>
      </p:pic>
      <p:pic>
        <p:nvPicPr>
          <p:cNvPr id="45" name="shakhand" descr=""/>
          <p:cNvPicPr/>
          <p:nvPr/>
        </p:nvPicPr>
        <p:blipFill>
          <a:blip r:embed="rId3"/>
          <a:stretch/>
        </p:blipFill>
        <p:spPr>
          <a:xfrm>
            <a:off x="3606840" y="2666880"/>
            <a:ext cx="226044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71640" y="838080"/>
            <a:ext cx="96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黑体"/>
                <a:ea typeface="黑体"/>
              </a:rPr>
              <a:t>4. New functions are being added to the ph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9960" y="1523880"/>
            <a:ext cx="590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This sentence is in the form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Present Continuous Passive Voice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75320" y="2743200"/>
            <a:ext cx="473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Subject + be + being + p.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5080" y="3557520"/>
            <a:ext cx="83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They are building a computer center for the stud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2160" y="4929120"/>
            <a:ext cx="89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A computer center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is being built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y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them for the stud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57600" y="4114800"/>
            <a:ext cx="609480" cy="762120"/>
          </a:xfrm>
          <a:prstGeom prst="downArrow">
            <a:avLst>
              <a:gd name="adj1" fmla="val 50000"/>
              <a:gd name="adj2" fmla="val 31261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981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981080" y="457200"/>
            <a:ext cx="4419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HOMEWORK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2" name=""/>
          <p:cNvSpPr/>
          <p:nvPr/>
        </p:nvSpPr>
        <p:spPr>
          <a:xfrm>
            <a:off x="746280" y="3244680"/>
            <a:ext cx="77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forget your everyday free tal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44197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line some sentences you think difficult to understand, and try to get the main meaning of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stitle9" descr=""/>
          <p:cNvPicPr/>
          <p:nvPr/>
        </p:nvPicPr>
        <p:blipFill>
          <a:blip r:embed="rId1"/>
          <a:stretch/>
        </p:blipFill>
        <p:spPr>
          <a:xfrm>
            <a:off x="4038480" y="838080"/>
            <a:ext cx="308160" cy="2746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62120" y="1906560"/>
            <a:ext cx="771192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to list as many effects in our daily life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made by modern inven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057400" y="1600200"/>
            <a:ext cx="52578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See You Next Tim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8" name=""/>
          <p:cNvSpPr/>
          <p:nvPr/>
        </p:nvSpPr>
        <p:spPr>
          <a:xfrm>
            <a:off x="3340800" y="4836960"/>
            <a:ext cx="29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Copy right@ William 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2003.11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J_034" descr=""/>
          <p:cNvPicPr/>
          <p:nvPr/>
        </p:nvPicPr>
        <p:blipFill>
          <a:blip r:embed="rId1"/>
          <a:stretch/>
        </p:blipFill>
        <p:spPr>
          <a:xfrm>
            <a:off x="0" y="0"/>
            <a:ext cx="10210680" cy="6807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28800" y="2286000"/>
            <a:ext cx="571500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648320" y="914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914040" y="3352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4724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38880" y="3276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6095880" y="137124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981080" y="4495680"/>
            <a:ext cx="10670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2437920" y="159984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48520" y="449568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47680" y="30240"/>
            <a:ext cx="603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Call family when mi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84320" y="6075360"/>
            <a:ext cx="42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幼圆"/>
                <a:ea typeface="幼圆"/>
              </a:rPr>
              <a:t>Ask for help when 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1200" y="1974960"/>
            <a:ext cx="54612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幼圆"/>
                <a:ea typeface="幼圆"/>
              </a:rPr>
              <a:t>Entertai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375840" y="2154960"/>
            <a:ext cx="5461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幼圆"/>
                <a:ea typeface="幼圆"/>
              </a:rPr>
              <a:t>Enj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57280" y="554184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幼圆"/>
                <a:ea typeface="幼圆"/>
              </a:rPr>
              <a:t>A WORLD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4520" y="108756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幼圆"/>
                <a:ea typeface="幼圆"/>
              </a:rPr>
              <a:t>Mini-calc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moto" descr=""/>
          <p:cNvPicPr/>
          <p:nvPr/>
        </p:nvPicPr>
        <p:blipFill>
          <a:blip r:embed="rId2"/>
          <a:stretch/>
        </p:blipFill>
        <p:spPr>
          <a:xfrm>
            <a:off x="3809880" y="2362320"/>
            <a:ext cx="1905120" cy="2012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765520" y="312408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65920" y="320040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alxt602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2743200"/>
          </a:xfrm>
          <a:prstGeom prst="rect">
            <a:avLst/>
          </a:prstGeom>
          <a:ln w="0">
            <a:noFill/>
          </a:ln>
        </p:spPr>
      </p:pic>
      <p:pic>
        <p:nvPicPr>
          <p:cNvPr id="66" name="alxt68" descr=""/>
          <p:cNvPicPr/>
          <p:nvPr/>
        </p:nvPicPr>
        <p:blipFill>
          <a:blip r:embed="rId2"/>
          <a:stretch/>
        </p:blipFill>
        <p:spPr>
          <a:xfrm>
            <a:off x="3733920" y="0"/>
            <a:ext cx="1371600" cy="2308320"/>
          </a:xfrm>
          <a:prstGeom prst="rect">
            <a:avLst/>
          </a:prstGeom>
          <a:ln w="0">
            <a:noFill/>
          </a:ln>
        </p:spPr>
      </p:pic>
      <p:pic>
        <p:nvPicPr>
          <p:cNvPr id="67" name="motoa760" descr=""/>
          <p:cNvPicPr/>
          <p:nvPr/>
        </p:nvPicPr>
        <p:blipFill>
          <a:blip r:embed="rId3"/>
          <a:stretch/>
        </p:blipFill>
        <p:spPr>
          <a:xfrm>
            <a:off x="3809880" y="3809880"/>
            <a:ext cx="1473480" cy="3048120"/>
          </a:xfrm>
          <a:prstGeom prst="rect">
            <a:avLst/>
          </a:prstGeom>
          <a:ln w="0">
            <a:noFill/>
          </a:ln>
        </p:spPr>
      </p:pic>
      <p:pic>
        <p:nvPicPr>
          <p:cNvPr id="68" name="nokia7250" descr=""/>
          <p:cNvPicPr/>
          <p:nvPr/>
        </p:nvPicPr>
        <p:blipFill>
          <a:blip r:embed="rId4"/>
          <a:stretch/>
        </p:blipFill>
        <p:spPr>
          <a:xfrm>
            <a:off x="1752480" y="1752480"/>
            <a:ext cx="1346400" cy="3048120"/>
          </a:xfrm>
          <a:prstGeom prst="rect">
            <a:avLst/>
          </a:prstGeom>
          <a:ln w="0">
            <a:noFill/>
          </a:ln>
        </p:spPr>
      </p:pic>
      <p:pic>
        <p:nvPicPr>
          <p:cNvPr id="69" name="xmemol66" descr=""/>
          <p:cNvPicPr/>
          <p:nvPr/>
        </p:nvPicPr>
        <p:blipFill>
          <a:blip r:embed="rId5"/>
          <a:stretch/>
        </p:blipFill>
        <p:spPr>
          <a:xfrm>
            <a:off x="0" y="4114800"/>
            <a:ext cx="1725480" cy="2743200"/>
          </a:xfrm>
          <a:prstGeom prst="rect">
            <a:avLst/>
          </a:prstGeom>
          <a:ln w="0">
            <a:noFill/>
          </a:ln>
        </p:spPr>
      </p:pic>
      <p:pic>
        <p:nvPicPr>
          <p:cNvPr id="70" name="siemensm55" descr=""/>
          <p:cNvPicPr/>
          <p:nvPr/>
        </p:nvPicPr>
        <p:blipFill>
          <a:blip r:embed="rId6"/>
          <a:stretch/>
        </p:blipFill>
        <p:spPr>
          <a:xfrm>
            <a:off x="7238880" y="3809880"/>
            <a:ext cx="1397160" cy="3048120"/>
          </a:xfrm>
          <a:prstGeom prst="rect">
            <a:avLst/>
          </a:prstGeom>
          <a:ln w="0">
            <a:noFill/>
          </a:ln>
        </p:spPr>
      </p:pic>
      <p:pic>
        <p:nvPicPr>
          <p:cNvPr id="71" name="xelibri4" descr=""/>
          <p:cNvPicPr/>
          <p:nvPr/>
        </p:nvPicPr>
        <p:blipFill>
          <a:blip r:embed="rId7"/>
          <a:stretch/>
        </p:blipFill>
        <p:spPr>
          <a:xfrm>
            <a:off x="6934320" y="228600"/>
            <a:ext cx="1549440" cy="3048120"/>
          </a:xfrm>
          <a:prstGeom prst="rect">
            <a:avLst/>
          </a:prstGeom>
          <a:ln w="0">
            <a:noFill/>
          </a:ln>
        </p:spPr>
      </p:pic>
      <p:pic>
        <p:nvPicPr>
          <p:cNvPr id="72" name="bdnvrenxinf1" descr=""/>
          <p:cNvPicPr/>
          <p:nvPr/>
        </p:nvPicPr>
        <p:blipFill>
          <a:blip r:embed="rId8"/>
          <a:stretch/>
        </p:blipFill>
        <p:spPr>
          <a:xfrm>
            <a:off x="4038480" y="2206800"/>
            <a:ext cx="954360" cy="1908000"/>
          </a:xfrm>
          <a:prstGeom prst="rect">
            <a:avLst/>
          </a:prstGeom>
          <a:ln w="0">
            <a:noFill/>
          </a:ln>
        </p:spPr>
      </p:pic>
      <p:pic>
        <p:nvPicPr>
          <p:cNvPr id="73" name="nokia3510" descr=""/>
          <p:cNvPicPr/>
          <p:nvPr/>
        </p:nvPicPr>
        <p:blipFill>
          <a:blip r:embed="rId9"/>
          <a:stretch/>
        </p:blipFill>
        <p:spPr>
          <a:xfrm>
            <a:off x="5486400" y="1752480"/>
            <a:ext cx="1333440" cy="3048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148040" y="289080"/>
            <a:ext cx="627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幼圆"/>
                <a:ea typeface="幼圆"/>
              </a:rPr>
              <a:t>How can you descri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幼圆"/>
                <a:ea typeface="幼圆"/>
              </a:rPr>
              <a:t>these cellphon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hand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04920" y="2666880"/>
            <a:ext cx="1028520" cy="708120"/>
          </a:xfrm>
          <a:prstGeom prst="rect">
            <a:avLst/>
          </a:prstGeom>
          <a:ln w="0">
            <a:noFill/>
          </a:ln>
        </p:spPr>
      </p:pic>
      <p:pic>
        <p:nvPicPr>
          <p:cNvPr id="76" name="forward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28600" y="3581280"/>
            <a:ext cx="137160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46483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BJ_025" descr=""/>
          <p:cNvPicPr/>
          <p:nvPr/>
        </p:nvPicPr>
        <p:blipFill>
          <a:blip r:embed="rId1"/>
          <a:stretch/>
        </p:blipFill>
        <p:spPr>
          <a:xfrm>
            <a:off x="5867280" y="4673520"/>
            <a:ext cx="3276720" cy="2184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14440" y="5075280"/>
            <a:ext cx="260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ff"/>
                </a:solidFill>
                <a:latin typeface="华文彩云"/>
                <a:ea typeface="华文彩云"/>
              </a:rPr>
              <a:t>TIP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2200" y="3124080"/>
            <a:ext cx="316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How much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it co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4520" y="334800"/>
            <a:ext cx="341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What color is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41280" y="411120"/>
            <a:ext cx="316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What size is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7680" y="1630440"/>
            <a:ext cx="361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What shape is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6400" y="2971800"/>
            <a:ext cx="35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What material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it made o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05480" y="1627200"/>
            <a:ext cx="41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What features d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it ha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ack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43000" y="6019920"/>
            <a:ext cx="1600200" cy="5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920" y="0"/>
            <a:ext cx="747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Below is an </a:t>
            </a:r>
            <a:r>
              <a:rPr b="1" i="1" lang="zh-CN" sz="3200" spc="-1" strike="noStrike" u="sng">
                <a:solidFill>
                  <a:srgbClr val="808000"/>
                </a:solidFill>
                <a:uFillTx/>
                <a:latin typeface="黑体"/>
                <a:ea typeface="黑体"/>
              </a:rPr>
              <a:t>outline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of the text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cellphones. Look at the outline.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try to fill the blan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3080" y="1339920"/>
            <a:ext cx="876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Wang Mei is an example of Chinese teena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who have cellph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77240" y="2238480"/>
            <a:ext cx="774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. Cellphones can be used for many th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For example: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698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Talking to people, sending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and pictures,playing games, listening to music, keeping appoin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040" y="3886200"/>
            <a:ext cx="61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3. Cellphones also cause prob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82400" y="449568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1). In school___________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39400" y="4419720"/>
            <a:ext cx="50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cellphones may disturb less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46040" y="4952880"/>
            <a:ext cx="72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2). At home________________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95480" y="4892760"/>
            <a:ext cx="91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students may spend too much time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money on phone ca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6440" y="1295280"/>
            <a:ext cx="786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4. There are several reasons why teena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like cellph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75040" y="2362320"/>
            <a:ext cx="735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1).Cellphones help us stay in touch with 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and fam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54880" y="3200400"/>
            <a:ext cx="52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2). Cellphones make us feel saf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60280" y="3809880"/>
            <a:ext cx="49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3). Cellphones are fun and c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55520" y="4419720"/>
            <a:ext cx="7905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4). Wang Mei explains why she likes her cell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and what she uses it for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6480" y="457200"/>
            <a:ext cx="81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Further understanding of the text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68840" y="1295280"/>
            <a:ext cx="971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1.Wang Mei puts her hand into her pocket, t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out her red cellphone, and press the talk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7200" y="2406600"/>
            <a:ext cx="205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Cellpho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21240" y="245268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Mobile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4114800"/>
            <a:ext cx="2895480" cy="1371600"/>
          </a:xfrm>
          <a:prstGeom prst="ellipse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TELE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362320" y="4800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4876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5105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419720" y="37335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2720" y="3648240"/>
            <a:ext cx="606960" cy="21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ELL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09680" y="3383280"/>
            <a:ext cx="606960" cy="27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MOBILE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83600" y="3092400"/>
            <a:ext cx="33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ORDLESS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19120" y="579132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VISION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8440" y="762120"/>
            <a:ext cx="837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黑体"/>
                <a:ea typeface="黑体"/>
              </a:rPr>
              <a:t>2.I should be home in about ten min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1080" y="1371600"/>
            <a:ext cx="20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Should: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应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8040" y="1828800"/>
            <a:ext cx="868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You should not use your cellphone in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1080" y="2438280"/>
            <a:ext cx="20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Should: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要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5560" y="2909880"/>
            <a:ext cx="784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黑体"/>
                <a:ea typeface="黑体"/>
              </a:rPr>
              <a:t>I think you should think it over b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33cc"/>
                </a:solidFill>
                <a:latin typeface="黑体"/>
                <a:ea typeface="黑体"/>
              </a:rPr>
              <a:t>do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1080" y="3886200"/>
            <a:ext cx="20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Should: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建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7280" y="4257720"/>
            <a:ext cx="847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We’ve got everything ready. There sh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be no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1080" y="5257800"/>
            <a:ext cx="20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Should: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判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6440" y="762120"/>
            <a:ext cx="869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3.Cellphones make it possible for us to t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to anyone from anyw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2480" y="1905120"/>
            <a:ext cx="71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It: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代替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to talk to anyone from anywhere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作形式宾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92200" y="3657600"/>
            <a:ext cx="33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It: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还可代替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to do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作形式主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67280" y="2666880"/>
            <a:ext cx="68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Eg:I think it important to learn English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25880" y="4511520"/>
            <a:ext cx="705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Eg:It is impossible for him to turn down su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a requ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6:29:51Z</dcterms:created>
  <dc:creator>William Qiu</dc:creator>
  <dc:description/>
  <cp:keywords>Life on the go</cp:keywords>
  <dc:language>en-US</dc:language>
  <cp:lastModifiedBy>hj</cp:lastModifiedBy>
  <dcterms:modified xsi:type="dcterms:W3CDTF">2003-11-10T13:02:19Z</dcterms:modified>
  <cp:revision>16</cp:revision>
  <dc:subject>Reading</dc:subject>
  <dc:title>Life On The Go</dc:title>
</cp:coreProperties>
</file>